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40B-12E5-487C-A99F-5116AA72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010-E960-47B2-9A6E-6C64C923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261-0886-42E4-95AD-F11CE1C2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2A0-01CB-4944-86A8-FEF42C8E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3A7F-D15E-41D9-8961-9411515D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5A50-3CBF-4B56-9CED-F9767685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C224-3705-476F-828C-2D079B3A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6D9-DB5C-43E7-93C4-FA9283F0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F1A9-6BCD-4E4F-8199-D7828DDF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7703-F40E-40FF-86E5-D46C903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B82-ECD7-4238-B337-EA7DC588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26C-2B97-4EEB-9104-4BF69587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ED3C-64B5-4BDD-96C1-10525C7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B27B-44A5-41C7-8DA7-702FCFF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6BA1-D1E2-4E8F-9191-A4C110D2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FCCA-1586-4362-84F0-2680FF63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EC10-A949-42E1-8AAB-6256E8C0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11E-30F4-47A9-BE95-1B71E3E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1DC-786B-4BFD-93BA-262DB9B4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3B7-EE62-45CF-82D8-2C44879F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4D6-EE99-4DF8-BC9B-9134AD5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637-30B4-4AF4-A73D-6D79E51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D5A-EF96-46F1-A1EF-567A0D88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D3B-DF36-4829-B04C-D86FC5A2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3FAD-9D54-4BE9-A4DD-F6BACB45A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E48D-FCA8-45F3-8174-5F3DBC12B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rfau afreolaid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ser y presenn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50920" y="404640"/>
            <a:ext cx="820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rhai berfau yn afreolaidd ac, yn wahanol i ferfau rheolaidd,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id ydynt  yn dilyn y patrymau arfero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Maent   yn dilyn eu patrwm eu hunain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rhai o’r berfau mwyaf defnyddiol yn afreolaid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es dim dewis arall ond eu dysgu   ar eich cof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yna bedwar yn arbennig y dylech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dysgu yn drylwyr –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avoir, êtr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all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ff03"/>
                </a:solidFill>
                <a:latin typeface="Comic Sans MS"/>
              </a:rPr>
              <a:t>être = b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869920"/>
            <a:ext cx="377028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su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Tu 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Il/Elle 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11240" y="2806560"/>
            <a:ext cx="377028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som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ê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s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BD10671_"/>
          <p:cNvPicPr/>
          <p:nvPr/>
        </p:nvPicPr>
        <p:blipFill>
          <a:blip r:embed="rId1"/>
          <a:stretch/>
        </p:blipFill>
        <p:spPr>
          <a:xfrm>
            <a:off x="971640" y="765000"/>
            <a:ext cx="1604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5ff03"/>
                </a:solidFill>
                <a:latin typeface="Comic Sans MS"/>
              </a:rPr>
              <a:t>avoir = bod gy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770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/Elle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1240" y="2743200"/>
            <a:ext cx="3770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av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o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ous av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j0232429"/>
          <p:cNvPicPr/>
          <p:nvPr/>
        </p:nvPicPr>
        <p:blipFill>
          <a:blip r:embed="rId1"/>
          <a:stretch/>
        </p:blipFill>
        <p:spPr>
          <a:xfrm>
            <a:off x="1116000" y="836640"/>
            <a:ext cx="1297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427280" y="2852280"/>
            <a:ext cx="432108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all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Vous all</a:t>
            </a:r>
            <a:r>
              <a:rPr b="0" lang="en-US" sz="3600" spc="-1" strike="noStrike">
                <a:solidFill>
                  <a:srgbClr val="032600"/>
                </a:solidFill>
                <a:latin typeface="Comic Sans MS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v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2852280"/>
            <a:ext cx="373392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v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Tu v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/Elle 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1042560" y="1483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5ff03"/>
                </a:solidFill>
                <a:latin typeface="Comic Sans MS"/>
              </a:rPr>
              <a:t>aller = my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j0282781"/>
          <p:cNvPicPr/>
          <p:nvPr/>
        </p:nvPicPr>
        <p:blipFill>
          <a:blip r:embed="rId1"/>
          <a:stretch/>
        </p:blipFill>
        <p:spPr>
          <a:xfrm>
            <a:off x="1187280" y="907920"/>
            <a:ext cx="1727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ff03"/>
                </a:solidFill>
                <a:latin typeface="Comic Sans MS"/>
              </a:rPr>
              <a:t>faire = gwneu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2869920"/>
            <a:ext cx="377028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f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Tu f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Il/Elle fai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11240" y="2806560"/>
            <a:ext cx="377028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fa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is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i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f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AN02337_"/>
          <p:cNvPicPr/>
          <p:nvPr/>
        </p:nvPicPr>
        <p:blipFill>
          <a:blip r:embed="rId1"/>
          <a:stretch/>
        </p:blipFill>
        <p:spPr>
          <a:xfrm>
            <a:off x="684360" y="476280"/>
            <a:ext cx="194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marferwch a Sylw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wr, ceisiwch gwblhau’r ymarferion ar avoir, être, aller a faire sydd yn eich llyfry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saf, gan ddefnyddio uwcholeuydd neu bensil lliw, uwcholeuwch unrhyw  rannau tebyg rhwng y 4 berf (dim ond y rhannau sydd y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r un peth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e. J’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0:15:29Z</dcterms:created>
  <dc:creator>YSGOL Y PRESELI</dc:creator>
  <dc:description/>
  <dc:language>en-US</dc:language>
  <cp:lastModifiedBy>Admin</cp:lastModifiedBy>
  <dcterms:modified xsi:type="dcterms:W3CDTF">2012-09-16T14:42:04Z</dcterms:modified>
  <cp:revision>6</cp:revision>
  <dc:subject/>
  <dc:title>Slide 1</dc:title>
</cp:coreProperties>
</file>